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  <p:sldId id="286" r:id="rId64"/>
    <p:sldId id="287" r:id="rId65"/>
    <p:sldId id="288" r:id="rId66"/>
    <p:sldId id="289" r:id="rId67"/>
    <p:sldId id="290" r:id="rId68"/>
    <p:sldId id="291" r:id="rId69"/>
    <p:sldId id="292" r:id="rId7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slide" Target="slides/slide31.xml"/><Relationship Id="rId65" Type="http://schemas.openxmlformats.org/officeDocument/2006/relationships/slide" Target="slides/slide32.xml"/><Relationship Id="rId66" Type="http://schemas.openxmlformats.org/officeDocument/2006/relationships/slide" Target="slides/slide33.xml"/><Relationship Id="rId67" Type="http://schemas.openxmlformats.org/officeDocument/2006/relationships/slide" Target="slides/slide34.xml"/><Relationship Id="rId68" Type="http://schemas.openxmlformats.org/officeDocument/2006/relationships/slide" Target="slides/slide35.xml"/><Relationship Id="rId69" Type="http://schemas.openxmlformats.org/officeDocument/2006/relationships/slide" Target="slides/slide36.xml"/><Relationship Id="rId70" Type="http://schemas.openxmlformats.org/officeDocument/2006/relationships/slide" Target="slides/slide3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0A8415-504D-41A6-8BCB-A473521D0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FB11C2-DCDF-4F2C-B59C-E8D3AFDF4DCA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DC2F-32A0-45AE-9CF2-643F4C22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1606-A045-4A4D-9DC4-51723A68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EA82-DE6A-4CB8-9C62-B2D8E038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6881-86DC-48C7-8C1F-965F1C56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EA2E-992C-4B77-8E7E-00758BF8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11D7-597B-4549-BE7B-46B14077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B2D3-C01B-4514-9DCE-76FC0797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0392-EBA6-448C-951D-82F9BD17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58DA-58A0-42E8-B25D-10024EC2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952E-4808-4E7D-9EAE-BC04DD49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DC98-EE2D-4DAF-BE5C-6EF9E140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B246-291D-46BF-A2D2-F3D19105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EBA5-3B7C-4A8D-9176-EF1B030A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9009-8FF5-409D-A815-0C740B19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C6CB-8E3A-4BFD-867D-971447BD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6461-034C-44E0-8337-2DB71679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E778-FEA2-4924-82AC-79179ADA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6E7C-B276-4771-B26C-3A4E73CE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69BB-D105-4946-AC1E-FA101A90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8FD3-78B6-4A4B-B87E-5B35B408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4FF1-5265-438A-BB28-4B503481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959B-274B-43CE-86D3-61CB3A3A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5CA3-B2EE-4A42-8AD2-A48A7F6E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28E9-2B9A-4938-A674-26256580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60" name="Picture 5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48FA3F14-0348-4992-BFE6-F4405107074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54957F48-A9B3-49D9-833D-F696FA028E7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A5613120-1A8B-4913-B0D6-21A93AB0DE7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1FCCC1D3-2133-40E4-B4C9-E15189AEB96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8EFF7B56-1F25-4F8D-830B-DB602E2631A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9A988ADE-2FD1-42ED-AFFC-F1F68230017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203CF1F5-3D31-4AA0-A8E4-9F04507F316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A5B1B7AB-8276-40D1-BBC8-98D3F3C37F5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1B1A5C67-597D-4191-95B4-314740445DF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1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6D5D9D3E-284B-4419-8448-85C019C922C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EF6FD2D6-2729-4149-8EB9-171EEEBAA88B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E07DCC8F-7F38-498E-AF6E-BE875FE925E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9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0E0DA6E2-D5B6-4D0E-9DAA-368F5A89017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3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C7E07B52-315B-4B27-94FD-A2FE9465CBA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1449CF94-6829-475F-A5A9-3D666FCEA6F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13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D23A-E1DB-488E-B9F6-86A2187E5A8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FB4A1CB9-38A8-4988-9936-CEEE5C8E4415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56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509B-B4BC-4DD1-86D3-344DFEA46590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4A4FAF33-FE20-486A-8A02-E8D91723266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9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2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8" name="Rectangle 10"/>
          <p:cNvSpPr/>
          <p:nvPr/>
        </p:nvSpPr>
        <p:spPr>
          <a:xfrm>
            <a:off x="685800" y="320040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Работа с медиите. Практически съвети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Паола Хюсеин, редактори култура и оживление, в-к 24 час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Елена Брайкова, </a:t>
            </a: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Старши Акаунт мениджър и Връзки с институции, </a:t>
            </a: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Юнайтед Партнърс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 иска информацията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914400" y="33523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Кратко, точно, ясно!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ИЗ "УПРАЖНЕНИЯ ПО СТИЛ"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РЕЙМОН КЬОНО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 автобус по южната линия в един от натоварените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часове. Тип на двадесет и шест години - мека шапка с шнур, заместващ панделката; прекалено дълъг врат, сякаш са го разтягали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Хората слизат. Въпросният тип се сърди на един съсед. Упреква го, че го блъска всеки път, щом мине някой. Хленчещ тон, а му се иска да е зъл. Като вижда едно свободно място, се спуска към него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ва часа по-късно го срещам отново - на Римския площад, пред гара Сен Лазар. Той е с един приятел, който му казва: "Ще трябва да сложиш още едно копче на сакото си". Обяснява му къде (на скъсаното място) и защо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АНОТАЦИЯ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4300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Гъстонаселено се автотранспортирах в общоизвестното южнопарижко направление и се самоозовах близкостоящ до един дълговрат плетеноширитен дръжмишапковец. Гореописания трагикомично слаботелесен нехранимайко с плиткодънна многозначителност умопомрачи едикой си с долуказаното: "Както целенасочено своеволничите, вие злоупотребявате с телосложението ми нееднократно!"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животрептящото си словоизлияние преждеговорившия правостоящ скорострелно се облагодетелствува от една обезлюдила се междувременно едноместна автоседалка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двучасово времетраене мимоходом го лицезрях да площадосенлазарствува с един гологлав доброжелател, който нравоучително и чистосърдечно празнословеше: "Целесъобразно е да прекомплектоваш по-благоразумно полушубката си!" И умозаключително изсладкодумничи причиноследствената взаимовръз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СЛОЖНОДУМН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като пуснах корени от чакане под цъфналия слънчоглед, аз се ашладисах на една тиквичка по пътя за Чам дере. Там се натъкнах на избуяла кратуна, чийто лимоненожълт плод стърчеше с увита около него лиана. Този ми ти пъпеш наряза като краставица един репон, който му тъпчел лехите и му газел лука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Но за да не вади кестените от огъня, той си обра крушите и се насади в един парцел за лично ползуван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-късно го видях пред Женския пазар, направен на бъзе и коприва, защото имаше на палтото си нещо, което не беше цвете за мирис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БОТАНИЧЕСКИ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002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Иска да научи повече от това, което му поднасяте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отличен изследовател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Бързо “влиза в ритъм” по отношение на дадената информация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Разработва и използва различни източници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Пише при определен краен срок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само един журналист в контекста на цялостния процес по публикация на материал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Всеки добър журналист: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1860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Много от хората в тази професия са и си остават идеалист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Настроени са срещу бизнеса, срещу печалбата, срещу властит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по принцип са цинично настрое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Те са самовлюбени, с предразсъдъци, субективност, и са свръхчувствителни на тема състезание с колегите с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Работят много часове, имат кратки крайни сроков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често работят сам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Професията им не поощрява екипен дух в корпоративен стил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Са хора, като всички останали!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Но имайте предвид, че...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Придържайки се към </a:t>
            </a:r>
            <a:r>
              <a:rPr b="1" lang="ru-RU" sz="2400" spc="-1" strike="noStrike">
                <a:solidFill>
                  <a:srgbClr val="00b0f0"/>
                </a:solidFill>
                <a:latin typeface="Verdana"/>
              </a:rPr>
              <a:t>четиристранния тест </a:t>
            </a: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за онова което мислим, говорим или правим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1.Това ли е истинат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2.Справедливо ли е спрямо всички, които засяг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3.Ще създаде ли това добронамереност и по-добри приятелств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4.Ще бъде ли от полза за всички, които засяга?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Затова се отнасяйте с тях,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282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даването на информацията често е не по-малко важно от съдържанието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 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майте отлични познания по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верени и вдъхвайте респек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Избягвайте поведение на арогантност / превес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чтиви, дръжте се приятно през цялото врем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оменяйте изказа според контекста на въпроси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авайте колкото се може по-прости и кратки комента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идържайте се към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Сведете до минимум техническия жарго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емонстрирайте спокой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т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ставяйте “да ви хванат”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телно изслушвайте въпросите!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збягвайте спонтанни неуверени отгово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дръжте прекалено приятелс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изказвайте лошо за трети стра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запълвайте ‘паузите’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риемете, че каквото казвате е “официално”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питвайте да поучавате или принизявате журналиста!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изпадайте в словоизлияни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Verdana"/>
              </a:rPr>
              <a:t>Lost in connection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1860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ечатни или записани интервю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мнете, че каквото и да кажете, то ще бъде съкратено / редактира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ерете се, че има повече време / място за подробни обясн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Ако е на запис, опитайте се да формулирате кратки изречения, за да избегнете заблуждаващо редактиран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нтервюта на живо: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мате само една възможност – бъдете подготвени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икновено имате по-малко време (за по-малко думи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Шансът за обосновка е по-малък, отколкото при печатно интервю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дварително си подгответе кратки ключови послания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стегнато и ясно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авете визуален елемент към речта: жестове, движения, удар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Внимавайте за езика на тялото си: бъдете уверени, прями, позитив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пози като ръце на хълбоци или сключени зад гла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“бариери” в общуването, като обръщане на друга страна или скръстване на ръц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емонстрирайте интерес към нещата, които казва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нервни жестове с ръцете или поставянето им пред лицето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вайте жестовете ви да са свободни, но контролирани, ако хората около вас са резервирани или нервни; избягвайте резки движения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Ако искате да “затоплите” атмосферата, стойте малко по-близо до другия (до интервюиращия)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Стремете се думите езикът на тялото ви да съвпадат, иначе ще изглеждате неискре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смихвайте се – уверените хора рядко гледат строго или сърдито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“Четете” по лицето на интервюиращия и съобразявайте отговорите си с това – все пак не сте в условията на вакуум!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Ако давате ТВ интервю, винаги внимавайте за следните нещ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ведението си, ако още сте пред камер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сядане, ставан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обличане – без ярки цветове, карета, раета и п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ледайте интервюиращия, не камерата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тправяне на посланието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емете инициати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ърво отправяйте най-силн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държайте това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аряй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огатявайте го с анекдоти, крилати фрази и д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кратко и яс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Развийте собствена техника на изказване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1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Контролирайте неща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ърво отговорете на въпроса, колкото може по-кратк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хвърлете се към ключов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речете ключовото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е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орете ключовото послание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28240" y="6667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зползвайте ОПП технология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Отговор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рехвърляне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слание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273" name="Picture 2" descr=""/>
          <p:cNvPicPr/>
          <p:nvPr/>
        </p:nvPicPr>
        <p:blipFill>
          <a:blip r:embed="rId1"/>
          <a:stretch/>
        </p:blipFill>
        <p:spPr>
          <a:xfrm>
            <a:off x="696960" y="2209680"/>
            <a:ext cx="7748640" cy="4181760"/>
          </a:xfrm>
          <a:prstGeom prst="rect">
            <a:avLst/>
          </a:prstGeom>
          <a:ln w="28440">
            <a:solidFill>
              <a:srgbClr val="005da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мери за “прехвърляне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Бих искал/а да подчерта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Най-важното е да се разбер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има нещо за отбелязване, то 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да добав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погледнем по-нататък, ще видим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не забравяме ,че…”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5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4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верете се, че знаете за какво ще ви интервюира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майте подготвени ключови послания / изявления и бъдете готови да ги повтаря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Говорете по възможно най-разбираем и лек начи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o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мнете, че: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Интервюто не е приятелски разговор!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Няма нещо, наречено “неофициално изявление”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Основни правила на интервюто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Комуникирайте посланието с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ставяйте ударение на ключови момен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клонявайте от тем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ръжте се като говорител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търпеливи и прятелски настро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яйте се с фак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ползвайте шеговити изрази, крилати мисли (с мярка!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ажавайте крайния срок на журналиста или времетраенето на интервюто, когато то е за електронна медиа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914400" y="36572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привлечете внимани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оказвайте раздразне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бранявайте по който и да е аспект от вашата рабо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никакви “неофициални” изявл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тговаряйте на въпроса с въпрос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бсъждайте неща, за които не сте упълномощ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предполoжения; кажете “не зная”, ако не зна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и правете шег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отговори от типа “без коментар”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Rectangle 2"/>
          <p:cNvSpPr/>
          <p:nvPr/>
        </p:nvSpPr>
        <p:spPr>
          <a:xfrm>
            <a:off x="14400" y="0"/>
            <a:ext cx="9144000" cy="990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не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ловко мълчание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се изнервяйте. Не казвайте повече от планираното, за да запълните тишината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двеждащи въпрос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Приемете или отхвърлете въпроса и се върнете към ключовото си послание / 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приемливи алтернатив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Отхвърляйт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e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всяка предложена алтернатива на отговор, като се връщате на ключовото си послание/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Коментар по изказванията на други хор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коментирайте нечии други изказвания. Придържайте се към посланието с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3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Хипотетични предполож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реагирайте на хипотетични предположения. Придържайте се към посланието с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твърждаване на чужда позиц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повтаряйте изказвания на журналиста. Променете изказването така че да служи на вашите цел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късвания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скайте възможност да довършите отговора си. Бъдете колкото се може по-кратк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Бързо задавани въпроси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Спрете потока от въпроси с жест. Отговорете на онзи въпрос, който е най-добър за вас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Грешни предположения и заключ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еднага посочете грешката и я подчертайте пред интервюиращия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Удар из засад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е необходимо да се съгласявате да давате интервю, ако времето и мястото не ви устройват. Предложете време и място, подходящи за вас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1860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•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роволчеството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заимодействието между хората в развитите и развиващите се стра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стни проекти или проекти на Фондацият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ждународните обучения на Rotary и обмен на участници по програмите (Младежки обмен, Ротари за световен мир, Стипендианти-посланици или Групово обучение за членове)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стории за хора, на които службата е помогнал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ейности в полза на ПолиоПлюс, особено в полио-ендемичните район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Да се върнем на историите на Ротари!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3"/>
          <p:cNvSpPr/>
          <p:nvPr/>
        </p:nvSpPr>
        <p:spPr>
          <a:xfrm>
            <a:off x="0" y="1371600"/>
            <a:ext cx="9144000" cy="37339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Добрата история е добра история, написана и на салфетка! 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3"/>
          <p:cNvSpPr/>
          <p:nvPr/>
        </p:nvSpPr>
        <p:spPr>
          <a:xfrm>
            <a:off x="0" y="990720"/>
            <a:ext cx="9144000" cy="487656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ace: </a:t>
            </a: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Първият лек шок на осъзнаване идва през лятото на 1994 г. с една ръчно написана бележка, оставена върху бюрото на Рой Андерсън. 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Бележката е от дистрибутор на компанията на западния бряг и гласи: "Някои клиенти се интересуват какво прави "Интерфейс" за околната среда. Какво да им отговарям?"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3"/>
          <p:cNvSpPr/>
          <p:nvPr/>
        </p:nvSpPr>
        <p:spPr>
          <a:xfrm>
            <a:off x="0" y="990720"/>
            <a:ext cx="9144000" cy="4572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Дори да ми е останал един-единствен долар, бих го инвестирал в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!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Verdana"/>
              </a:rPr>
              <a:t>Бил Гейтс 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Verdana"/>
              </a:rPr>
              <a:t>3 000 метра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Picture 7" descr="P0228413K_big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Picture 25" descr="P0228299N_big"/>
          <p:cNvPicPr/>
          <p:nvPr/>
        </p:nvPicPr>
        <p:blipFill>
          <a:blip r:embed="rId1"/>
          <a:stretch/>
        </p:blipFill>
        <p:spPr>
          <a:xfrm>
            <a:off x="685800" y="615960"/>
            <a:ext cx="7848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5" descr="P0203126N_big"/>
          <p:cNvPicPr/>
          <p:nvPr/>
        </p:nvPicPr>
        <p:blipFill>
          <a:blip r:embed="rId1"/>
          <a:stretch/>
        </p:blipFill>
        <p:spPr>
          <a:xfrm>
            <a:off x="380880" y="584280"/>
            <a:ext cx="8153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не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914400" y="37335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губите врем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108680" cy="5438520"/>
          </a:xfrm>
          <a:prstGeom prst="rect">
            <a:avLst/>
          </a:prstGeom>
          <a:ln w="0">
            <a:noFill/>
          </a:ln>
        </p:spPr>
      </p:pic>
      <p:sp>
        <p:nvSpPr>
          <p:cNvPr id="1239" name="Rectangle 3"/>
          <p:cNvSpPr/>
          <p:nvPr/>
        </p:nvSpPr>
        <p:spPr>
          <a:xfrm>
            <a:off x="4417920" y="43668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не е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 Google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са корпоративн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овините за продукт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искомасленият журнализъм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Безкофеинов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16a62"/>
                </a:solidFill>
                <a:latin typeface="Verdana"/>
              </a:rPr>
              <a:t>Вицепрезидентът на Innovation Хуан Антонио Гинер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9T16:18:53Z</dcterms:modified>
  <cp:revision>717</cp:revision>
  <dc:subject/>
  <dc:title>PowerPoint Presentation</dc:title>
</cp:coreProperties>
</file>